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  <p:custShowLst>
    <p:custShow name="Chapter" id="0">
      <p:sldLst>
        <p:sld r:id="rId19"/>
        <p:sld r:id="rId20"/>
        <p:sld r:id="rId21"/>
        <p:sld r:id="rId22"/>
        <p:sld r:id="rId23"/>
        <p:sld r:id="rId24"/>
        <p:sld r:id="rId33"/>
        <p:sld r:id="rId34"/>
        <p:sld r:id="rId35"/>
        <p:sld r:id="rId38"/>
        <p:sld r:id="rId39"/>
        <p:sld r:id="rId40"/>
      </p:sldLst>
    </p:custShow>
    <p:custShow name="STP" id="1">
      <p:sldLst>
        <p:sld r:id="rId25"/>
        <p:sld r:id="rId26"/>
        <p:sld r:id="rId27"/>
        <p:sld r:id="rId28"/>
        <p:sld r:id="rId29"/>
        <p:sld r:id="rId30"/>
        <p:sld r:id="rId31"/>
      </p:sldLst>
    </p:custShow>
    <p:custShow name="Transparencies" id="2">
      <p:sldLst>
        <p:sld r:id="rId22"/>
        <p:sld r:id="rId38"/>
        <p:sld r:id="rId40"/>
      </p:sldLst>
    </p:custShow>
    <p:custShow name="Section 1" id="3">
      <p:sldLst>
        <p:sld r:id="rId19"/>
        <p:sld r:id="rId20"/>
        <p:sld r:id="rId21"/>
        <p:sld r:id="rId22"/>
        <p:sld r:id="rId23"/>
        <p:sld r:id="rId24"/>
        <p:sld r:id="rId33"/>
        <p:sld r:id="rId34"/>
        <p:sld r:id="rId35"/>
        <p:sld r:id="rId38"/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5EB-80E9-456A-87D5-B3C79B5D40F7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80880" y="990720"/>
            <a:ext cx="876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than two alleles so there are several possible out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4440240" y="-164880"/>
            <a:ext cx="263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343400" cy="44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026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-Linked Genes and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 found on the X chromosom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X-linked ge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-linked tra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trait whose allele is located on a sex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ales have only one X chromosome, a male who carries a recessive allele on the X chromosome will exhibit the sex-linked trai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2"/>
          <p:cNvSpPr/>
          <p:nvPr/>
        </p:nvSpPr>
        <p:spPr>
          <a:xfrm>
            <a:off x="0" y="0"/>
            <a:ext cx="9144000" cy="321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Thomas Hunt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Worked with Fruit Fly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sophi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3 sets of aut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1 set of sex-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0" y="2286000"/>
            <a:ext cx="1905120" cy="250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6316560" y="2585880"/>
            <a:ext cx="282744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3048120" y="3048120"/>
          <a:ext cx="2361960" cy="228600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6699240" y="10944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2"/>
          <p:cNvSpPr/>
          <p:nvPr/>
        </p:nvSpPr>
        <p:spPr>
          <a:xfrm>
            <a:off x="0" y="0"/>
            <a:ext cx="9144000" cy="217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a red-eyed fe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a white-eyed 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at is the genotype and phenotype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295280" y="2286000"/>
          <a:ext cx="2819520" cy="2514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2"/>
          <p:cNvSpPr/>
          <p:nvPr/>
        </p:nvSpPr>
        <p:spPr>
          <a:xfrm>
            <a:off x="0" y="0"/>
            <a:ext cx="9144000" cy="217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a heterozygous red-eyed fe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a white-eyed 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What is the genotype and phenotype 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295280" y="2286000"/>
          <a:ext cx="2819520" cy="2514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026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man Sex-Linked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blindness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philia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chene muscular dystrophy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ile X syndrome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7086600" cy="691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05120" y="166680"/>
            <a:ext cx="53337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,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nked Ge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rs of genes that tend to be inherited together are cal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nked genes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romosome Mapp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rther apart two genes are located on a chromosome, the more likely a cross-over will occu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rs use recombinant percentages to construct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romosome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wing relative gene pos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380880" y="914400"/>
            <a:ext cx="838224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a man with blood type AB and a women with blood type O. What are the possible genotypes and phenotypes for the offspr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rm-cell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 in gametes and can b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d on to offspring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matic-cell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 in bod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affect only the individual organis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the structure of a chromosome or the loss or gain of an entire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risomy like Down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Monosomy like Turner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NONDISJUN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81880" cy="6284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8458200" cy="6389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3"/>
          <a:stretch/>
        </p:blipFill>
        <p:spPr>
          <a:xfrm>
            <a:off x="457200" y="233280"/>
            <a:ext cx="8686800" cy="6624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670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991720" cy="6488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6"/>
          <a:stretch/>
        </p:blipFill>
        <p:spPr>
          <a:xfrm>
            <a:off x="0" y="41400"/>
            <a:ext cx="8991720" cy="6816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the structure of a chromosome or the loss or gain of an entire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risomy like Down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Monosomy like Turner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NONDISJUN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4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6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Gen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one or more of the nucleotides in a ge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2" descr="p109"/>
          <p:cNvPicPr/>
          <p:nvPr/>
        </p:nvPicPr>
        <p:blipFill>
          <a:blip r:embed="rId2"/>
          <a:stretch/>
        </p:blipFill>
        <p:spPr>
          <a:xfrm>
            <a:off x="581040" y="1990800"/>
            <a:ext cx="798336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between sex chromosomes and aut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the role of sex chromosomes in sex determin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how an X- or Y-linked gene affects the inheritance of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the effect of crossing-over on the inheritance of genes in linkage group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between chromosome mutations and gene mutation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457200" y="914400"/>
            <a:ext cx="82296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a man with blood type A and a women with blood typeB. What are the possible genotypes and phenotypes for the offspr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0"/>
          <p:cNvSpPr/>
          <p:nvPr/>
        </p:nvSpPr>
        <p:spPr>
          <a:xfrm>
            <a:off x="3505320" y="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heritance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d 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sex chromosomes and aut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ole of sex chromosomes in sex determin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an X- or Y-linked gene affects the inheritance of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ffect of crossing-over on the inheritance of genes in linkage group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chromosome mutations and gene mutation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 reside on chrom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genes that determine an organism’s sex (gender)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ining chromosomes that are not directly involved in determining the sex of an individual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 and Autosom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genes that determine an organism’s sex (gender)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ining chromosomes that are not directly involved in determining the sex of an individual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types: Male and Fema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6" descr="p107"/>
          <p:cNvPicPr/>
          <p:nvPr/>
        </p:nvPicPr>
        <p:blipFill>
          <a:blip r:embed="rId2"/>
          <a:stretch/>
        </p:blipFill>
        <p:spPr>
          <a:xfrm>
            <a:off x="639720" y="1890720"/>
            <a:ext cx="8043840" cy="38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Determin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mmals, an individual carrying two X chromosomes is femal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vidual carrying an X and a Y chromosome is ma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0-12-02T15:13:15Z</dcterms:modified>
  <cp:revision>904</cp:revision>
  <dc:subject/>
  <dc:title>No Slide Title</dc:title>
</cp:coreProperties>
</file>